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19.jpeg" ContentType="image/jpeg"/>
  <Override PartName="/ppt/media/image11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BA6-3834-42BE-A86A-1BCE5B7B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97A-FFBC-49D1-AA13-5E202C24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C61-7FA6-4DD8-A14E-F1E5EDD1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8E1-3A06-421C-97E2-9BDE6B62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98F7-3D41-4479-9D9A-2F4743D3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2B06-9997-4D62-921D-E8A8E3BA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0B2C-368F-45C4-A314-4AF35F5E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40A4-9C00-4D80-B7A4-5C32C8F7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85FC-2900-4D44-A7BE-23210E5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DE46-9B18-446A-9F70-188ED6AA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8AF6-8EF5-4210-A2DE-A0C6556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FB8-2B8D-40C1-836D-6F3845B6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5559-B8E5-4E10-8854-2F4BE67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5C12-0741-40EA-9985-6C3D7570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493C-32C3-4B81-923C-20768FC9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AA6F-0A1E-4CD1-8BEC-61723864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6CCE-2C35-440E-AA3D-D2242EEC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D06A-A152-48D8-91C5-98C2E39F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C9F5-F13E-43EE-9893-ECEEF3C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E55A-6833-43E1-99BA-0652735D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E9F5-49FA-4A46-8744-5DFB7A33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CED8-C921-4D54-BDF1-9DC3408C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447-1D73-4CBB-AA0A-71F61BD6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C024-6324-477F-ADB0-E115EC7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6DC7-5EDD-4DFA-B1E7-0BE3F14B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9BD3-D05E-4EEE-8581-939EE5B8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9D07-5B2B-415E-90B1-44B2F802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AFDC-27B4-42F8-A80A-946417D9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C6C3-86AC-4F9C-8A4B-D44B8D67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C206-90F5-47EE-ABF9-F560F81E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6C2C8-C8AD-4B28-9C06-E4CE7FBE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065D-1321-4E4F-9E02-F383AEE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04850-AEF2-4299-88D7-5C18D60B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197-C819-4C8B-B37D-4690EA94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01FB-D0F6-4507-B40B-B987E03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4DBA-4BB0-4B64-85C2-7D670B1A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A5F8-A94E-42CC-BF6B-7E3EB656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1111-C09F-4C62-AAAD-B24632A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4FA2-1703-4804-9974-D130F436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262C-40DF-473E-B9E5-5B5AA39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EC8B-D84F-4162-A24D-17467C46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CAEE2-3FD0-4E8B-8AAF-FD48A81F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E8289-54ED-4137-A3E9-F85DC8E9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52F9-6669-4C1C-9B7A-58338BD0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788-3548-4CEE-B3A0-75FE8832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96AD5-65D6-45F3-B7E7-F0548BA4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7ACE-0787-42D8-B05C-DC52FEB7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C5CCF-72BF-4DA9-82E7-4C062B23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583B-2038-4431-B737-0175E99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7F03-5FC8-46B7-B93C-B7639A1B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03C9-C952-4DF6-9359-D6171E79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19DE1-8830-432C-A3F5-6691D72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DD531-7F75-4D7F-AD2E-6963714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DDC4-2763-4154-9B25-0A32B236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7F1E-45DD-4BB4-AC4B-05F94EC1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C98-C1EE-4253-AF2A-253F795D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ED187-01E3-42F5-AFC3-E5AEE06A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AAAE-0C76-4A6B-8ADA-3053F48B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625C4-2C4B-42CF-A8AA-48F65CAA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2D2F1-8EAB-4271-815D-34B4A3CE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76B32-A712-45D2-9A25-CBAE12D6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6B98-9FEE-466D-9F42-5D724254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7B107-1285-44B9-AA28-52AB8D37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BC4C8-B4E2-4E7A-AB48-A30E7D7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32A43-9589-4867-9734-EDCA264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04B7F-B388-474D-B023-A62A3AA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BC8-6828-4E4A-B786-7F3B129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93443-BFAD-47F0-ABAD-CF5397CD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6D745-CC25-401A-B1D9-764D13DE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D9D9-0835-4668-8CA1-E82716DE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92E46-1866-438A-AE49-A2B15A17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4728B-D843-417C-897F-5A2591A9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1648B-B7C5-4D80-9410-DE55D72D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D33E7-5E9D-4152-B5D4-F45F18C0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CC61-A1FB-4CDF-BA4A-FC3B9289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36A7-F828-41C9-A2CD-AF2B335C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C99E-5449-44EE-8A39-2E6D133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F28-7732-493C-9271-86FA5561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9BD93-15F9-4BB4-9C9A-B4CCB245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61968-7683-4282-9D83-66E90604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7118F-2F78-4575-B265-3834C97D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84897-7054-42B8-A653-2A305A74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13D30-1F9D-4A32-8E6D-4C43D362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EFCD-3660-4E45-98F6-3F2534BB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F7C49-3004-479F-824B-CAF0DE0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56361-EBA0-48BE-9756-82FF0DE5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F421B-9E61-45AE-A1F7-13B55B0A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3595-832A-4A7E-82B7-AD40A2E2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446-439F-4BF9-A1A2-E8568C7C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D0E32-BCBD-4499-A2C4-052C0B7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112F9-9159-4AC4-BB0F-09E9956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6DB2A-FF1E-43CB-9293-944E3263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7075-4C16-400F-BEFE-0A8DF670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1AA79-DB43-4F87-83B6-960E42D4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AD17-9498-4036-8D1A-92298BAB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886B3-CFB7-473E-970B-696C5DA4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47b6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2C19-5546-434F-8AA7-96FC43E98B6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"/>
          <p:cNvSpPr/>
          <p:nvPr/>
        </p:nvSpPr>
        <p:spPr>
          <a:xfrm>
            <a:off x="0" y="4281480"/>
            <a:ext cx="12192120" cy="2060640"/>
          </a:xfrm>
          <a:prstGeom prst="rect">
            <a:avLst/>
          </a:prstGeom>
          <a:solidFill>
            <a:srgbClr val="47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428148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0" y="4005360"/>
            <a:ext cx="12192120" cy="56808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任意多边形 10"/>
          <p:cNvSpPr/>
          <p:nvPr/>
        </p:nvSpPr>
        <p:spPr>
          <a:xfrm>
            <a:off x="5268960" y="2563920"/>
            <a:ext cx="1654200" cy="1917720"/>
          </a:xfrm>
          <a:prstGeom prst="pie">
            <a:avLst/>
          </a:pr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0DDB-20D3-488F-AEDE-C5328D95FAE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47b6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0800" y="409680"/>
            <a:ext cx="546120" cy="593640"/>
            <a:chOff x="550800" y="409680"/>
            <a:chExt cx="546120" cy="593640"/>
          </a:xfrm>
        </p:grpSpPr>
        <p:sp>
          <p:nvSpPr>
            <p:cNvPr id="89" name="MH_Other_1"/>
            <p:cNvSpPr/>
            <p:nvPr/>
          </p:nvSpPr>
          <p:spPr>
            <a:xfrm>
              <a:off x="603000" y="509400"/>
              <a:ext cx="493920" cy="493920"/>
            </a:xfrm>
            <a:prstGeom prst="ellipse">
              <a:avLst/>
            </a:prstGeom>
            <a:solidFill>
              <a:srgbClr val="47b6e7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" name="MH_Other_2"/>
            <p:cNvSpPr/>
            <p:nvPr/>
          </p:nvSpPr>
          <p:spPr>
            <a:xfrm>
              <a:off x="550800" y="409680"/>
              <a:ext cx="298440" cy="298440"/>
            </a:xfrm>
            <a:prstGeom prst="ellipse">
              <a:avLst/>
            </a:prstGeom>
            <a:solidFill>
              <a:srgbClr val="47b6e7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E8CD-23C4-4FA1-844B-5D58AE0CAE7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47b6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47b6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0" y="2816280"/>
            <a:ext cx="1566720" cy="855720"/>
          </a:xfrm>
          <a:prstGeom prst="rect">
            <a:avLst/>
          </a:prstGeom>
          <a:solidFill>
            <a:srgbClr val="47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16160" y="1932120"/>
            <a:ext cx="2646360" cy="2646360"/>
            <a:chOff x="1316160" y="1932120"/>
            <a:chExt cx="2646360" cy="2646360"/>
          </a:xfrm>
        </p:grpSpPr>
        <p:pic>
          <p:nvPicPr>
            <p:cNvPr id="136" name="椭圆 9" descr=""/>
            <p:cNvPicPr/>
            <p:nvPr/>
          </p:nvPicPr>
          <p:blipFill>
            <a:blip r:embed="rId2"/>
            <a:stretch/>
          </p:blipFill>
          <p:spPr>
            <a:xfrm>
              <a:off x="1316160" y="1932120"/>
              <a:ext cx="264636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787760" y="2405160"/>
              <a:ext cx="169380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F5C9-8B47-40ED-8B8E-F9AC8BA4D55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47b6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0800" y="409680"/>
            <a:ext cx="546120" cy="593640"/>
            <a:chOff x="550800" y="409680"/>
            <a:chExt cx="546120" cy="593640"/>
          </a:xfrm>
        </p:grpSpPr>
        <p:sp>
          <p:nvSpPr>
            <p:cNvPr id="181" name="MH_Other_1"/>
            <p:cNvSpPr/>
            <p:nvPr/>
          </p:nvSpPr>
          <p:spPr>
            <a:xfrm>
              <a:off x="603000" y="509400"/>
              <a:ext cx="493920" cy="493920"/>
            </a:xfrm>
            <a:prstGeom prst="ellipse">
              <a:avLst/>
            </a:prstGeom>
            <a:solidFill>
              <a:srgbClr val="47b6e7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" name="MH_Other_2"/>
            <p:cNvSpPr/>
            <p:nvPr/>
          </p:nvSpPr>
          <p:spPr>
            <a:xfrm>
              <a:off x="550800" y="409680"/>
              <a:ext cx="298440" cy="298440"/>
            </a:xfrm>
            <a:prstGeom prst="ellipse">
              <a:avLst/>
            </a:prstGeom>
            <a:solidFill>
              <a:srgbClr val="47b6e7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EA5A-5C38-4CE9-98B9-15870BE79F9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47b6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5" name="图片 6" descr=""/>
          <p:cNvPicPr/>
          <p:nvPr/>
        </p:nvPicPr>
        <p:blipFill>
          <a:blip r:embed="rId2"/>
          <a:stretch/>
        </p:blipFill>
        <p:spPr>
          <a:xfrm>
            <a:off x="8410680" y="996840"/>
            <a:ext cx="3781440" cy="2695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B21D-3D67-4AB6-AA22-B43EFDE466E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47b6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矩形 7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47b6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D214-9C9A-40A9-8F2F-8092DC0459E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47b6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矩形 7"/>
          <p:cNvSpPr/>
          <p:nvPr/>
        </p:nvSpPr>
        <p:spPr>
          <a:xfrm>
            <a:off x="2786040" y="1757520"/>
            <a:ext cx="3183120" cy="3873240"/>
          </a:xfrm>
          <a:prstGeom prst="rect">
            <a:avLst/>
          </a:prstGeom>
          <a:solidFill>
            <a:srgbClr val="eeeeee"/>
          </a:solidFill>
          <a:ln w="936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AED5-BC92-45C3-B665-E109A9C44C3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内容占位符 3" descr="1447381800306_463"/>
          <p:cNvPicPr/>
          <p:nvPr/>
        </p:nvPicPr>
        <p:blipFill>
          <a:blip r:embed="rId1"/>
          <a:stretch/>
        </p:blipFill>
        <p:spPr>
          <a:xfrm>
            <a:off x="7920" y="1117440"/>
            <a:ext cx="12211200" cy="4588200"/>
          </a:xfrm>
          <a:prstGeom prst="rect">
            <a:avLst/>
          </a:prstGeom>
          <a:ln w="0">
            <a:noFill/>
          </a:ln>
        </p:spPr>
      </p:pic>
      <p:pic>
        <p:nvPicPr>
          <p:cNvPr id="354" name="标题 1" descr=""/>
          <p:cNvPicPr/>
          <p:nvPr/>
        </p:nvPicPr>
        <p:blipFill>
          <a:blip r:embed="rId2"/>
          <a:stretch/>
        </p:blipFill>
        <p:spPr>
          <a:xfrm>
            <a:off x="1158840" y="231840"/>
            <a:ext cx="7083360" cy="10112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28840" y="1839960"/>
            <a:ext cx="101217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周华健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朋友           小虎队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爱          任贤齐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兄弟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高进，小沈阳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兄弟     李小杰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朋友的酒    吕方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朋友别哭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庞龙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兄弟干杯         那英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姐妹弟兄      张伟文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友谊之光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黑鸭子</a:t>
            </a:r>
            <a:r>
              <a:rPr b="1" lang="en-US" sz="1800" spc="-1" strike="noStrike">
                <a:solidFill>
                  <a:srgbClr val="5f5f5f"/>
                </a:solidFill>
                <a:latin typeface="黑体"/>
              </a:rPr>
              <a:t>-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友谊地久天长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" name="标题 1"/>
          <p:cNvSpPr/>
          <p:nvPr/>
        </p:nvSpPr>
        <p:spPr>
          <a:xfrm>
            <a:off x="739800" y="835200"/>
            <a:ext cx="4411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200" spc="-1" strike="noStrike">
                <a:solidFill>
                  <a:srgbClr val="47b6e7"/>
                </a:solidFill>
                <a:latin typeface="Arial"/>
              </a:rPr>
              <a:t>歌曲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内容占位符 2"/>
          <p:cNvSpPr/>
          <p:nvPr/>
        </p:nvSpPr>
        <p:spPr>
          <a:xfrm>
            <a:off x="1111320" y="4410000"/>
            <a:ext cx="9759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选择你喜欢的一首歌曲，抽空唱给你的朋友，分享快乐，收获友谊。</a:t>
            </a:r>
            <a:endParaRPr b="0" lang="en-US" sz="33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884160" y="1200240"/>
            <a:ext cx="10264680" cy="860400"/>
            <a:chOff x="884160" y="1200240"/>
            <a:chExt cx="10264680" cy="860400"/>
          </a:xfrm>
        </p:grpSpPr>
        <p:pic>
          <p:nvPicPr>
            <p:cNvPr id="396" name="标题 1" descr=""/>
            <p:cNvPicPr/>
            <p:nvPr/>
          </p:nvPicPr>
          <p:blipFill>
            <a:blip r:embed="rId1"/>
            <a:stretch/>
          </p:blipFill>
          <p:spPr>
            <a:xfrm>
              <a:off x="884160" y="1200240"/>
              <a:ext cx="102646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 txBox="1"/>
            <p:nvPr/>
          </p:nvSpPr>
          <p:spPr>
            <a:xfrm>
              <a:off x="884160" y="1200240"/>
              <a:ext cx="10264680" cy="86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98" name="内容占位符 3" descr=""/>
          <p:cNvPicPr/>
          <p:nvPr/>
        </p:nvPicPr>
        <p:blipFill>
          <a:blip r:embed="rId2"/>
          <a:stretch/>
        </p:blipFill>
        <p:spPr>
          <a:xfrm>
            <a:off x="927000" y="1974960"/>
            <a:ext cx="3664080" cy="4289400"/>
          </a:xfrm>
          <a:prstGeom prst="rect">
            <a:avLst/>
          </a:prstGeom>
          <a:ln w="0">
            <a:noFill/>
          </a:ln>
        </p:spPr>
      </p:pic>
      <p:pic>
        <p:nvPicPr>
          <p:cNvPr id="399" name="文本框 101" descr=""/>
          <p:cNvPicPr/>
          <p:nvPr/>
        </p:nvPicPr>
        <p:blipFill>
          <a:blip r:embed="rId3"/>
          <a:stretch/>
        </p:blipFill>
        <p:spPr>
          <a:xfrm>
            <a:off x="4803840" y="2664000"/>
            <a:ext cx="6686640" cy="3797280"/>
          </a:xfrm>
          <a:prstGeom prst="rect">
            <a:avLst/>
          </a:prstGeom>
          <a:ln w="0">
            <a:noFill/>
          </a:ln>
        </p:spPr>
      </p:pic>
      <p:pic>
        <p:nvPicPr>
          <p:cNvPr id="400" name="文本框 4" descr=""/>
          <p:cNvPicPr/>
          <p:nvPr/>
        </p:nvPicPr>
        <p:blipFill>
          <a:blip r:embed="rId4"/>
          <a:stretch/>
        </p:blipFill>
        <p:spPr>
          <a:xfrm>
            <a:off x="1414440" y="517680"/>
            <a:ext cx="40165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1085760" y="341280"/>
            <a:ext cx="10271160" cy="858960"/>
            <a:chOff x="1085760" y="341280"/>
            <a:chExt cx="10271160" cy="858960"/>
          </a:xfrm>
        </p:grpSpPr>
        <p:pic>
          <p:nvPicPr>
            <p:cNvPr id="402" name="标题 1" descr=""/>
            <p:cNvPicPr/>
            <p:nvPr/>
          </p:nvPicPr>
          <p:blipFill>
            <a:blip r:embed="rId1"/>
            <a:stretch/>
          </p:blipFill>
          <p:spPr>
            <a:xfrm>
              <a:off x="1085760" y="341280"/>
              <a:ext cx="10271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 txBox="1"/>
            <p:nvPr/>
          </p:nvSpPr>
          <p:spPr>
            <a:xfrm>
              <a:off x="1085760" y="341280"/>
              <a:ext cx="10271160" cy="85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04" name="内容占位符 3" descr=""/>
          <p:cNvPicPr/>
          <p:nvPr/>
        </p:nvPicPr>
        <p:blipFill>
          <a:blip r:embed="rId2"/>
          <a:stretch/>
        </p:blipFill>
        <p:spPr>
          <a:xfrm>
            <a:off x="1035000" y="1987560"/>
            <a:ext cx="3706920" cy="1879560"/>
          </a:xfrm>
          <a:prstGeom prst="rect">
            <a:avLst/>
          </a:prstGeom>
          <a:ln w="0">
            <a:noFill/>
          </a:ln>
        </p:spPr>
      </p:pic>
      <p:pic>
        <p:nvPicPr>
          <p:cNvPr id="405" name="文本框 101" descr=""/>
          <p:cNvPicPr/>
          <p:nvPr/>
        </p:nvPicPr>
        <p:blipFill>
          <a:blip r:embed="rId3"/>
          <a:stretch/>
        </p:blipFill>
        <p:spPr>
          <a:xfrm>
            <a:off x="5681520" y="1011240"/>
            <a:ext cx="5267520" cy="2622600"/>
          </a:xfrm>
          <a:prstGeom prst="rect">
            <a:avLst/>
          </a:prstGeom>
          <a:ln w="0">
            <a:noFill/>
          </a:ln>
        </p:spPr>
      </p:pic>
      <p:pic>
        <p:nvPicPr>
          <p:cNvPr id="406" name="文本框 4" descr=""/>
          <p:cNvPicPr/>
          <p:nvPr/>
        </p:nvPicPr>
        <p:blipFill>
          <a:blip r:embed="rId4"/>
          <a:stretch/>
        </p:blipFill>
        <p:spPr>
          <a:xfrm>
            <a:off x="5857920" y="3591000"/>
            <a:ext cx="5035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1085760" y="341280"/>
            <a:ext cx="10271160" cy="858960"/>
            <a:chOff x="1085760" y="341280"/>
            <a:chExt cx="10271160" cy="858960"/>
          </a:xfrm>
        </p:grpSpPr>
        <p:pic>
          <p:nvPicPr>
            <p:cNvPr id="408" name="标题 1" descr=""/>
            <p:cNvPicPr/>
            <p:nvPr/>
          </p:nvPicPr>
          <p:blipFill>
            <a:blip r:embed="rId1"/>
            <a:stretch/>
          </p:blipFill>
          <p:spPr>
            <a:xfrm>
              <a:off x="1085760" y="341280"/>
              <a:ext cx="10271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 txBox="1"/>
            <p:nvPr/>
          </p:nvSpPr>
          <p:spPr>
            <a:xfrm>
              <a:off x="1085760" y="341280"/>
              <a:ext cx="10271160" cy="85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10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1" name="文本框 3"/>
          <p:cNvSpPr/>
          <p:nvPr/>
        </p:nvSpPr>
        <p:spPr>
          <a:xfrm>
            <a:off x="1430280" y="2011320"/>
            <a:ext cx="975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通过对“朋友”两字的解读，我们可以将“朋友”的内涵理解为平等而友好的人际关系。平等意味着重视而非歧视对方；友好则意味着我们的言行举止不仅不会给他人带来伤害，带来痛苦，而且会给他人带来快乐和益处。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图片 4" descr="23751654"/>
          <p:cNvPicPr/>
          <p:nvPr/>
        </p:nvPicPr>
        <p:blipFill>
          <a:blip r:embed="rId1"/>
          <a:stretch/>
        </p:blipFill>
        <p:spPr>
          <a:xfrm>
            <a:off x="7711920" y="95400"/>
            <a:ext cx="4496040" cy="22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1133640" y="96840"/>
            <a:ext cx="10515600" cy="1573200"/>
            <a:chOff x="1133640" y="96840"/>
            <a:chExt cx="10515600" cy="1573200"/>
          </a:xfrm>
        </p:grpSpPr>
        <p:pic>
          <p:nvPicPr>
            <p:cNvPr id="414" name="标题 1" descr=""/>
            <p:cNvPicPr/>
            <p:nvPr/>
          </p:nvPicPr>
          <p:blipFill>
            <a:blip r:embed="rId2"/>
            <a:stretch/>
          </p:blipFill>
          <p:spPr>
            <a:xfrm>
              <a:off x="1133640" y="96840"/>
              <a:ext cx="105156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 txBox="1"/>
            <p:nvPr/>
          </p:nvSpPr>
          <p:spPr>
            <a:xfrm>
              <a:off x="1133640" y="96840"/>
              <a:ext cx="10515600" cy="157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1241280" y="1533600"/>
            <a:ext cx="782352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1" sz="3600" spc="-1" strike="noStrike">
                <a:solidFill>
                  <a:srgbClr val="5f5f5f"/>
                </a:solidFill>
                <a:latin typeface="Arial"/>
              </a:rPr>
              <a:t>、朋友是什么？写一排比句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17" name="文本框 99" descr=""/>
          <p:cNvPicPr/>
          <p:nvPr/>
        </p:nvPicPr>
        <p:blipFill>
          <a:blip r:embed="rId3"/>
          <a:stretch/>
        </p:blipFill>
        <p:spPr>
          <a:xfrm>
            <a:off x="669960" y="2560680"/>
            <a:ext cx="10206000" cy="3706920"/>
          </a:xfrm>
          <a:prstGeom prst="rect">
            <a:avLst/>
          </a:prstGeom>
          <a:ln w="0">
            <a:noFill/>
          </a:ln>
        </p:spPr>
      </p:pic>
      <p:pic>
        <p:nvPicPr>
          <p:cNvPr id="418" name="标题 1" descr=""/>
          <p:cNvPicPr/>
          <p:nvPr/>
        </p:nvPicPr>
        <p:blipFill>
          <a:blip r:embed="rId4"/>
          <a:stretch/>
        </p:blipFill>
        <p:spPr>
          <a:xfrm>
            <a:off x="963720" y="347760"/>
            <a:ext cx="1039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文本框 3"/>
          <p:cNvSpPr/>
          <p:nvPr/>
        </p:nvSpPr>
        <p:spPr>
          <a:xfrm>
            <a:off x="1163520" y="393840"/>
            <a:ext cx="104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．说一说你心目中的朋友（按照分类，用词语概括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2" name="文本框 4"/>
          <p:cNvSpPr/>
          <p:nvPr/>
        </p:nvSpPr>
        <p:spPr>
          <a:xfrm>
            <a:off x="1060920" y="1441440"/>
            <a:ext cx="17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1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性格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文本框 5"/>
          <p:cNvSpPr/>
          <p:nvPr/>
        </p:nvSpPr>
        <p:spPr>
          <a:xfrm>
            <a:off x="1060920" y="2062080"/>
            <a:ext cx="17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2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语言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文本框 6"/>
          <p:cNvSpPr/>
          <p:nvPr/>
        </p:nvSpPr>
        <p:spPr>
          <a:xfrm>
            <a:off x="1429920" y="270180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3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感情（情感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文本框 7"/>
          <p:cNvSpPr/>
          <p:nvPr/>
        </p:nvSpPr>
        <p:spPr>
          <a:xfrm>
            <a:off x="1245600" y="3240000"/>
            <a:ext cx="23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4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为人处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文本框 8"/>
          <p:cNvSpPr/>
          <p:nvPr/>
        </p:nvSpPr>
        <p:spPr>
          <a:xfrm>
            <a:off x="1337760" y="3786120"/>
            <a:ext cx="25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5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对我的态度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文本框 9"/>
          <p:cNvSpPr/>
          <p:nvPr/>
        </p:nvSpPr>
        <p:spPr>
          <a:xfrm>
            <a:off x="3344760" y="1289160"/>
            <a:ext cx="78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坦率   调皮   勇敢  保守  大胆   顽皮  无虑   悠闲   沉着   胆小  开朗  天真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------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文本框 10"/>
          <p:cNvSpPr/>
          <p:nvPr/>
        </p:nvSpPr>
        <p:spPr>
          <a:xfrm>
            <a:off x="4349880" y="3281400"/>
            <a:ext cx="76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实干认真  稳重冷静</a:t>
            </a:r>
            <a:r>
              <a:rPr b="0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平等互惠   </a:t>
            </a:r>
            <a:r>
              <a:rPr b="0" sz="2800" spc="-1" strike="noStrike">
                <a:solidFill>
                  <a:srgbClr val="ff0000"/>
                </a:solidFill>
                <a:latin typeface="Arial"/>
                <a:ea typeface="黑体"/>
              </a:rPr>
              <a:t>宽容他人，尊重差异</a:t>
            </a:r>
            <a:r>
              <a:rPr b="0" sz="2800" spc="-1" strike="noStrike">
                <a:solidFill>
                  <a:srgbClr val="ff0000"/>
                </a:solidFill>
                <a:latin typeface="Arial"/>
                <a:ea typeface="黑体"/>
              </a:rPr>
              <a:t>-----</a:t>
            </a:r>
            <a:r>
              <a:rPr b="0" sz="1800" spc="-1" strike="noStrike">
                <a:solidFill>
                  <a:srgbClr val="5f5f5f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文本框 11"/>
          <p:cNvSpPr/>
          <p:nvPr/>
        </p:nvSpPr>
        <p:spPr>
          <a:xfrm>
            <a:off x="7444080" y="324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文本框 12"/>
          <p:cNvSpPr/>
          <p:nvPr/>
        </p:nvSpPr>
        <p:spPr>
          <a:xfrm>
            <a:off x="8028360" y="3922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文本框 13"/>
          <p:cNvSpPr/>
          <p:nvPr/>
        </p:nvSpPr>
        <p:spPr>
          <a:xfrm>
            <a:off x="3073320" y="2214720"/>
            <a:ext cx="78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亲切感人、得体优雅、风趣幽默、自然质朴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------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文本框 14"/>
          <p:cNvSpPr/>
          <p:nvPr/>
        </p:nvSpPr>
        <p:spPr>
          <a:xfrm>
            <a:off x="5488200" y="2763720"/>
            <a:ext cx="31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开朗  天真   害羞、温顺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------</a:t>
            </a:r>
            <a:r>
              <a:rPr b="0" sz="2800" spc="-1" strike="noStrike">
                <a:solidFill>
                  <a:srgbClr val="5f5f5f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文本框 15"/>
          <p:cNvSpPr/>
          <p:nvPr/>
        </p:nvSpPr>
        <p:spPr>
          <a:xfrm>
            <a:off x="2509920" y="4289400"/>
            <a:ext cx="90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实在  热情   帮助照顾  关心体贴   坦诚相待，坚持原则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------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4" name="文本框 16" descr=""/>
          <p:cNvPicPr/>
          <p:nvPr/>
        </p:nvPicPr>
        <p:blipFill>
          <a:blip r:embed="rId1"/>
          <a:stretch/>
        </p:blipFill>
        <p:spPr>
          <a:xfrm>
            <a:off x="-41400" y="4840200"/>
            <a:ext cx="12501720" cy="1511280"/>
          </a:xfrm>
          <a:prstGeom prst="rect">
            <a:avLst/>
          </a:prstGeom>
          <a:ln w="0">
            <a:noFill/>
          </a:ln>
        </p:spPr>
      </p:pic>
      <p:sp>
        <p:nvSpPr>
          <p:cNvPr id="435" name="文本框 17"/>
          <p:cNvSpPr/>
          <p:nvPr/>
        </p:nvSpPr>
        <p:spPr>
          <a:xfrm>
            <a:off x="326520" y="4289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小结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" name="文本框 3"/>
          <p:cNvSpPr/>
          <p:nvPr/>
        </p:nvSpPr>
        <p:spPr>
          <a:xfrm>
            <a:off x="1241280" y="2011320"/>
            <a:ext cx="1036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黑体"/>
              </a:rPr>
              <a:t>《礼记 学记》中说：“独学而无友，则孤陋寡闻。”交个好朋友，可以相互帮助，共同成长。与朋友交往的第一步就是要展示自己，现在我们开始自我介绍，让朋友认识不一样的你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黑体"/>
              </a:rPr>
              <a:t>（先小组内发言，然后每组选一名同学全班发言。）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9" name="标题 1" descr=""/>
          <p:cNvPicPr/>
          <p:nvPr/>
        </p:nvPicPr>
        <p:blipFill>
          <a:blip r:embed="rId1"/>
          <a:stretch/>
        </p:blipFill>
        <p:spPr>
          <a:xfrm>
            <a:off x="-108000" y="-22320"/>
            <a:ext cx="10709280" cy="1559160"/>
          </a:xfrm>
          <a:prstGeom prst="rect">
            <a:avLst/>
          </a:prstGeom>
          <a:ln w="0">
            <a:noFill/>
          </a:ln>
        </p:spPr>
      </p:pic>
      <p:pic>
        <p:nvPicPr>
          <p:cNvPr id="440" name="标题 1" descr=""/>
          <p:cNvPicPr/>
          <p:nvPr/>
        </p:nvPicPr>
        <p:blipFill>
          <a:blip r:embed="rId2"/>
          <a:stretch/>
        </p:blipFill>
        <p:spPr>
          <a:xfrm>
            <a:off x="963720" y="347760"/>
            <a:ext cx="1039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文本框 3"/>
          <p:cNvSpPr/>
          <p:nvPr/>
        </p:nvSpPr>
        <p:spPr>
          <a:xfrm>
            <a:off x="3609360" y="1239840"/>
            <a:ext cx="6215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、请认真填写好课本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页《评价表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2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作业：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作文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(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必做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)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：将活动中的自我介绍写成一篇习作，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或者为你的朋友写一篇介绍文字。不少于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400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字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实践作业（选作）：将自己搜集到的朋友相关资料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整理成手抄小报，班级展示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3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推荐阅读欣赏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   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A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 复旦大学陈果老师的视频：孤独与朋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    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B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培根《论友情》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C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cctv 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青年公开课《开讲啦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44" name="标题 1" descr=""/>
          <p:cNvPicPr/>
          <p:nvPr/>
        </p:nvPicPr>
        <p:blipFill>
          <a:blip r:embed="rId1"/>
          <a:stretch/>
        </p:blipFill>
        <p:spPr>
          <a:xfrm>
            <a:off x="963720" y="347760"/>
            <a:ext cx="1039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文本框 6"/>
          <p:cNvSpPr/>
          <p:nvPr/>
        </p:nvSpPr>
        <p:spPr>
          <a:xfrm>
            <a:off x="1074600" y="2089080"/>
            <a:ext cx="10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宋体"/>
                <a:ea typeface="宋体"/>
              </a:rPr>
              <a:t>      </a:t>
            </a:r>
            <a:r>
              <a:rPr b="1" sz="3600" spc="-1" strike="noStrike">
                <a:solidFill>
                  <a:srgbClr val="ff0000"/>
                </a:solidFill>
                <a:latin typeface="宋体"/>
                <a:ea typeface="宋体"/>
              </a:rPr>
              <a:t>同学们，生活需要友情，人生需要朋友。生活中我们要交真友，善交好友，多交益友。在网络的虚拟世界里，我们更需要警惕邪恶，防止虚伪，反对背叛。愿你的人生友情常伴，有爱相随。最后让我们聆听一首歌曲来作结吧！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48" name="标题 1" descr=""/>
          <p:cNvPicPr/>
          <p:nvPr/>
        </p:nvPicPr>
        <p:blipFill>
          <a:blip r:embed="rId1"/>
          <a:stretch/>
        </p:blipFill>
        <p:spPr>
          <a:xfrm>
            <a:off x="963720" y="347760"/>
            <a:ext cx="1039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" name="文本框 6"/>
          <p:cNvSpPr/>
          <p:nvPr/>
        </p:nvSpPr>
        <p:spPr>
          <a:xfrm>
            <a:off x="6966000" y="212760"/>
            <a:ext cx="4738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这些年一个人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风也过雨也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有过泪有过错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还记得坚持甚么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真爱过才会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会寂寞会回首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终有你终有梦在心中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朋友不曾孤单过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一声朋友你会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还有伤还有痛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还要走还有我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这些年一个人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风也过雨也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1" name="标题 1"/>
          <p:cNvSpPr/>
          <p:nvPr/>
        </p:nvSpPr>
        <p:spPr>
          <a:xfrm>
            <a:off x="1241280" y="393840"/>
            <a:ext cx="10112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2" name="内容占位符 2" descr="周华健"/>
          <p:cNvPicPr/>
          <p:nvPr/>
        </p:nvPicPr>
        <p:blipFill>
          <a:blip r:embed="rId1"/>
          <a:stretch/>
        </p:blipFill>
        <p:spPr>
          <a:xfrm>
            <a:off x="2516040" y="279360"/>
            <a:ext cx="3867120" cy="5810400"/>
          </a:xfrm>
          <a:prstGeom prst="rect">
            <a:avLst/>
          </a:prstGeom>
          <a:ln w="0">
            <a:noFill/>
          </a:ln>
        </p:spPr>
      </p:pic>
      <p:pic>
        <p:nvPicPr>
          <p:cNvPr id="453" name="矩形 3" descr=""/>
          <p:cNvPicPr/>
          <p:nvPr/>
        </p:nvPicPr>
        <p:blipFill>
          <a:blip r:embed="rId2"/>
          <a:stretch/>
        </p:blipFill>
        <p:spPr>
          <a:xfrm>
            <a:off x="225360" y="469800"/>
            <a:ext cx="2054160" cy="5997600"/>
          </a:xfrm>
          <a:prstGeom prst="rect">
            <a:avLst/>
          </a:prstGeom>
          <a:ln w="0">
            <a:noFill/>
          </a:ln>
        </p:spPr>
      </p:pic>
      <p:pic>
        <p:nvPicPr>
          <p:cNvPr id="454" name="周华健 - 朋友 (Live).mp3" descr=""/>
          <p:cNvPicPr/>
          <p:nvPr/>
        </p:nvPicPr>
        <p:blipFill>
          <a:blip r:embed="rId3"/>
          <a:stretch/>
        </p:blipFill>
        <p:spPr>
          <a:xfrm>
            <a:off x="4127400" y="4613400"/>
            <a:ext cx="131148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69322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57" name="内容占位符 3" descr="20131227090426-393362943"/>
          <p:cNvPicPr/>
          <p:nvPr/>
        </p:nvPicPr>
        <p:blipFill>
          <a:blip r:embed="rId1"/>
          <a:stretch/>
        </p:blipFill>
        <p:spPr>
          <a:xfrm>
            <a:off x="-23760" y="3240"/>
            <a:ext cx="121777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39680" y="267840"/>
            <a:ext cx="1011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活动目标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文本框 100"/>
          <p:cNvSpPr/>
          <p:nvPr/>
        </p:nvSpPr>
        <p:spPr>
          <a:xfrm>
            <a:off x="738360" y="822240"/>
            <a:ext cx="1061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学会搜集整理资料。                                                                         </a:t>
            </a:r>
            <a:r>
              <a:rPr b="1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学会用准确、生动、文明、得体的语言进行交流。        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学会与人合作，能用文字、语言展示自己的学习成果。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培养友情，理解交友之道。了解“朋友”的内涵，学会与别人交朋友。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963720" y="347760"/>
            <a:ext cx="10393200" cy="1285920"/>
            <a:chOff x="963720" y="347760"/>
            <a:chExt cx="10393200" cy="1285920"/>
          </a:xfrm>
        </p:grpSpPr>
        <p:pic>
          <p:nvPicPr>
            <p:cNvPr id="361" name="标题 1" descr=""/>
            <p:cNvPicPr/>
            <p:nvPr/>
          </p:nvPicPr>
          <p:blipFill>
            <a:blip r:embed="rId1"/>
            <a:stretch/>
          </p:blipFill>
          <p:spPr>
            <a:xfrm>
              <a:off x="963720" y="347760"/>
              <a:ext cx="103932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 txBox="1"/>
            <p:nvPr/>
          </p:nvSpPr>
          <p:spPr>
            <a:xfrm>
              <a:off x="963720" y="347760"/>
              <a:ext cx="10393200" cy="12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63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" name="文本框 99"/>
          <p:cNvSpPr/>
          <p:nvPr/>
        </p:nvSpPr>
        <p:spPr>
          <a:xfrm>
            <a:off x="1057320" y="1346040"/>
            <a:ext cx="43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交流收获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65" name="文本框 2" descr=""/>
          <p:cNvPicPr/>
          <p:nvPr/>
        </p:nvPicPr>
        <p:blipFill>
          <a:blip r:embed="rId2"/>
          <a:stretch/>
        </p:blipFill>
        <p:spPr>
          <a:xfrm>
            <a:off x="1054080" y="2657520"/>
            <a:ext cx="9522000" cy="206064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3"/>
          <p:cNvSpPr/>
          <p:nvPr/>
        </p:nvSpPr>
        <p:spPr>
          <a:xfrm>
            <a:off x="1241280" y="4484520"/>
            <a:ext cx="994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要求：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每组只选择一方面互相交流后整理在活页纸上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每组派一名代表上台展示自己的学习成果，时间控制在三分钟左右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32832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7b6e7"/>
                </a:solidFill>
                <a:latin typeface="Arial"/>
              </a:rPr>
              <a:t>成语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" name="文本框 3"/>
          <p:cNvSpPr/>
          <p:nvPr/>
        </p:nvSpPr>
        <p:spPr>
          <a:xfrm>
            <a:off x="1324080" y="1598760"/>
            <a:ext cx="9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胆相照、情同手足、志同道合、风雨同舟、荣辱与共、同甘共苦、生死之交、莫逆之交、义结金兰</a:t>
            </a:r>
            <a:r>
              <a:rPr b="1" sz="4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69" name="文本框 4" descr=""/>
          <p:cNvPicPr/>
          <p:nvPr/>
        </p:nvPicPr>
        <p:blipFill>
          <a:blip r:embed="rId1"/>
          <a:stretch/>
        </p:blipFill>
        <p:spPr>
          <a:xfrm>
            <a:off x="1255680" y="4316400"/>
            <a:ext cx="9809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1" name="文本框 100"/>
          <p:cNvSpPr/>
          <p:nvPr/>
        </p:nvSpPr>
        <p:spPr>
          <a:xfrm>
            <a:off x="803160" y="1117440"/>
            <a:ext cx="1077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内存知己，天涯若比邻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勃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劝君更尽一杯酒，西出阳关无故人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维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潭水深千尺，不及汪伦送我情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愁前路无知己， 天下谁人不识君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生所贵在知己，四海相逢骨肉亲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贺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" name="文本框 4"/>
          <p:cNvSpPr/>
          <p:nvPr/>
        </p:nvSpPr>
        <p:spPr>
          <a:xfrm>
            <a:off x="993600" y="438120"/>
            <a:ext cx="50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齐声诵读以下优美诗文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993600" y="4275000"/>
            <a:ext cx="103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宋体"/>
                <a:ea typeface="宋体"/>
              </a:rPr>
              <a:t>你搜集的有关交友的诗句，有与上述诗句不同的，请大声读给其他同学听一听！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标题 1"/>
          <p:cNvSpPr/>
          <p:nvPr/>
        </p:nvSpPr>
        <p:spPr>
          <a:xfrm>
            <a:off x="9115560" y="317520"/>
            <a:ext cx="22381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200" spc="-1" strike="noStrike">
                <a:solidFill>
                  <a:srgbClr val="47b6e7"/>
                </a:solidFill>
                <a:latin typeface="Arial"/>
              </a:rPr>
              <a:t>诗文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文本框 2"/>
          <p:cNvSpPr/>
          <p:nvPr/>
        </p:nvSpPr>
        <p:spPr>
          <a:xfrm>
            <a:off x="974880" y="952560"/>
            <a:ext cx="106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子敬而无失，与人恭而有礼，四海之内皆兄弟也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语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颜渊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8" name="文本框 3"/>
          <p:cNvSpPr/>
          <p:nvPr/>
        </p:nvSpPr>
        <p:spPr>
          <a:xfrm>
            <a:off x="981000" y="2049480"/>
            <a:ext cx="104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70c0"/>
                </a:solidFill>
                <a:latin typeface="宋体"/>
                <a:ea typeface="宋体"/>
              </a:rPr>
              <a:t>赏析：只要提高自己的道德修养，对工作认真负责，不出差错，和人交往态度恭谨而合乎礼节，别人就都乐于与自己交朋友，那么，普天之下到处都是你的朋友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文本框 4"/>
          <p:cNvSpPr/>
          <p:nvPr/>
        </p:nvSpPr>
        <p:spPr>
          <a:xfrm>
            <a:off x="974880" y="3603600"/>
            <a:ext cx="98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朱者赤，近墨者黑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语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文本框 5"/>
          <p:cNvSpPr/>
          <p:nvPr/>
        </p:nvSpPr>
        <p:spPr>
          <a:xfrm>
            <a:off x="1039680" y="4245120"/>
            <a:ext cx="101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70c0"/>
                </a:solidFill>
                <a:latin typeface="宋体"/>
                <a:ea typeface="宋体"/>
              </a:rPr>
              <a:t>赏析：比喻接近好人可以使人变好，接近坏人可以使人变坏。指客观环境对人有很大影响。说明交友的重要性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标题 1"/>
          <p:cNvSpPr/>
          <p:nvPr/>
        </p:nvSpPr>
        <p:spPr>
          <a:xfrm>
            <a:off x="669960" y="193680"/>
            <a:ext cx="4411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200" spc="-1" strike="noStrike">
                <a:solidFill>
                  <a:srgbClr val="47b6e7"/>
                </a:solidFill>
                <a:latin typeface="Arial"/>
              </a:rPr>
              <a:t>名言警句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文本框 6"/>
          <p:cNvSpPr/>
          <p:nvPr/>
        </p:nvSpPr>
        <p:spPr>
          <a:xfrm>
            <a:off x="711360" y="3073320"/>
            <a:ext cx="10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sz="3600" spc="-1" strike="noStrike">
                <a:solidFill>
                  <a:srgbClr val="ff0000"/>
                </a:solidFill>
                <a:latin typeface="宋体"/>
                <a:ea typeface="宋体"/>
              </a:rPr>
              <a:t>课后整理你所搜集的名言警句。（能够说出自己的赏析更好，摘抄到读书笔记上。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文本框 2"/>
          <p:cNvSpPr/>
          <p:nvPr/>
        </p:nvSpPr>
        <p:spPr>
          <a:xfrm>
            <a:off x="4527000" y="279360"/>
            <a:ext cx="31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．独学而无友，则孤陋而寡闻。——《礼记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学记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文本框 3"/>
          <p:cNvSpPr/>
          <p:nvPr/>
        </p:nvSpPr>
        <p:spPr>
          <a:xfrm>
            <a:off x="5755680" y="920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70c0"/>
                </a:solidFill>
                <a:latin typeface="宋体"/>
                <a:ea typeface="宋体"/>
              </a:rPr>
              <a:t>赏析：交个好朋友，可以相互帮助，共同成长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文本框 4"/>
          <p:cNvSpPr/>
          <p:nvPr/>
        </p:nvSpPr>
        <p:spPr>
          <a:xfrm>
            <a:off x="941400" y="3695760"/>
            <a:ext cx="10247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17240" y="230472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请同学们利用业余时间，用现代汉语讲述课本第</a:t>
            </a: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34</a:t>
            </a: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页故事典故给你的父母和兄弟姐妹听。</a:t>
            </a:r>
            <a:endParaRPr b="0" lang="en-US" sz="33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0" name="标题 1"/>
          <p:cNvSpPr/>
          <p:nvPr/>
        </p:nvSpPr>
        <p:spPr>
          <a:xfrm>
            <a:off x="739800" y="835200"/>
            <a:ext cx="4411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200" spc="-1" strike="noStrike">
                <a:solidFill>
                  <a:srgbClr val="47b6e7"/>
                </a:solidFill>
                <a:latin typeface="Arial"/>
              </a:rPr>
              <a:t>故事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6:37:21Z</dcterms:created>
  <dc:creator>Administrator</dc:creator>
  <dc:description/>
  <dc:language>en-US</dc:language>
  <cp:lastModifiedBy>User</cp:lastModifiedBy>
  <dcterms:modified xsi:type="dcterms:W3CDTF">2018-10-08T02:44:01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